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77E-B2FA-4EB6-91FC-4F2C311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79A-5E44-4C6F-8255-1B4D43A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18A-2655-404F-A4B5-2C6F5EA6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CEF-D119-413E-887A-C9524FA7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F27-141B-42FA-938D-0E9C643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0B6-A922-42FF-A740-EAE81C3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551-C380-410E-AC1D-C9E961F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E10-4F05-40E7-B20A-B0B5D87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892-29C9-400C-A179-F43D181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BD0-BC0A-49CD-AA4A-4A2E496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6FA-78C1-43DD-BE99-BBD16C3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A0F-BBCE-4D4A-A9FA-8862595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4606-996B-40CB-B9A7-18A44DD0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njuguemos.com/home/index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Une révision des verb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francai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362320"/>
            <a:ext cx="77724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The objective of this tutorial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To review the verb “avoi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Berlin Sans FB"/>
              </a:rPr>
              <a:t>To learn how to form REGULAR –ER, IR, and –RE verbs in the PAS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52280"/>
            <a:ext cx="78487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-ER PAST PARTICI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1219320"/>
            <a:ext cx="4343400" cy="1143000"/>
          </a:xfrm>
          <a:prstGeom prst="wedgeRoundRectCallout">
            <a:avLst>
              <a:gd name="adj1" fmla="val -44115"/>
              <a:gd name="adj2" fmla="val 8999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just look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 verb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04812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tone Sans OS ITC TT-Semi"/>
              </a:rPr>
              <a:t>avoir</a:t>
            </a: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  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4114800"/>
            <a:ext cx="8991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ler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ger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v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ribbler)    Il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ribb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qu’au demi-cer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1522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Donnez le passé composé of ER verbe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295280"/>
            <a:ext cx="2362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. dribbler, j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5000" y="1523880"/>
            <a:ext cx="26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j'ai dribbl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23623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. chanter, n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76920" y="2362320"/>
            <a:ext cx="410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us avons chan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3429000"/>
            <a:ext cx="36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égaliser, v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800" y="3352680"/>
            <a:ext cx="3581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us avez égalis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4648320"/>
            <a:ext cx="31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. siffler, t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4120" y="4495680"/>
            <a:ext cx="3429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tu as siffl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5791320"/>
            <a:ext cx="291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5. gagner, 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5638680"/>
            <a:ext cx="3352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l a gagn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-93600" y="141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13160" y="1417680"/>
            <a:ext cx="3929040" cy="4024440"/>
            <a:chOff x="2513160" y="1417680"/>
            <a:chExt cx="3929040" cy="4024440"/>
          </a:xfrm>
        </p:grpSpPr>
        <p:sp>
          <p:nvSpPr>
            <p:cNvPr id="103" name=""/>
            <p:cNvSpPr/>
            <p:nvPr/>
          </p:nvSpPr>
          <p:spPr>
            <a:xfrm>
              <a:off x="2513160" y="1417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3160" y="1417680"/>
              <a:ext cx="392904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  </a:t>
              </a:r>
              <a:r>
                <a:rPr b="0" lang="en-US" sz="25000" spc="-1" strike="noStrike">
                  <a:solidFill>
                    <a:srgbClr val="666666"/>
                  </a:solidFill>
                  <a:latin typeface="Myriad Web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28800" y="0"/>
            <a:ext cx="6705720" cy="3352680"/>
          </a:xfrm>
          <a:prstGeom prst="wedgeEllipseCallout">
            <a:avLst>
              <a:gd name="adj1" fmla="val -41666"/>
              <a:gd name="adj2" fmla="val 8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’re confus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sk for help or go back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ok at the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’re doing 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08200" y="1406520"/>
            <a:ext cx="3929040" cy="3932280"/>
            <a:chOff x="2608200" y="1406520"/>
            <a:chExt cx="3929040" cy="3932280"/>
          </a:xfrm>
        </p:grpSpPr>
        <p:sp>
          <p:nvSpPr>
            <p:cNvPr id="109" name=""/>
            <p:cNvSpPr/>
            <p:nvPr/>
          </p:nvSpPr>
          <p:spPr>
            <a:xfrm>
              <a:off x="2608200" y="140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8200" y="1406520"/>
              <a:ext cx="392904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  </a:t>
              </a:r>
              <a:r>
                <a:rPr b="0" lang="en-US" sz="25200" spc="-1" strike="noStrike">
                  <a:solidFill>
                    <a:srgbClr val="666666"/>
                  </a:solidFill>
                  <a:latin typeface="Myriad Web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944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52280"/>
            <a:ext cx="78487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-IR PAST PARTICI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1219320"/>
            <a:ext cx="4343400" cy="1143000"/>
          </a:xfrm>
          <a:prstGeom prst="wedgeRoundRectCallout">
            <a:avLst>
              <a:gd name="adj1" fmla="val -44115"/>
              <a:gd name="adj2" fmla="val 8999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just look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 verb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04812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tone Sans OS ITC TT-Semi"/>
              </a:rPr>
              <a:t>avoir</a:t>
            </a: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  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0"/>
            <a:ext cx="8991720" cy="206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éussir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’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éu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 bon pan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oisir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ou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v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i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n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mplir)        Tu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p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bouteille d’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4920" y="0"/>
            <a:ext cx="7467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Donnez le passé composé des verbes en -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. finir, j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52880" y="838080"/>
            <a:ext cx="2686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j'ai fi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2057400"/>
            <a:ext cx="388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. grossir, n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24280" y="1981080"/>
            <a:ext cx="410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us avons gros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3200400"/>
            <a:ext cx="36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punir, v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920" y="312408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us avez pu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441972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. vomir, 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6920" y="4495680"/>
            <a:ext cx="3733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ils ont vom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562720"/>
            <a:ext cx="3571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. réfléchir, t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5520" y="5562720"/>
            <a:ext cx="3657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u as réfléc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8080" y="152280"/>
            <a:ext cx="78487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-RE PAST PARTICI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1219320"/>
            <a:ext cx="4343400" cy="1143000"/>
          </a:xfrm>
          <a:prstGeom prst="wedgeRoundRectCallout">
            <a:avLst>
              <a:gd name="adj1" fmla="val -44115"/>
              <a:gd name="adj2" fmla="val 8999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just look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 verb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304812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tone Sans OS ITC TT-Semi"/>
              </a:rPr>
              <a:t>avoir</a:t>
            </a:r>
            <a:r>
              <a:rPr b="0" lang="en-US" sz="6000" spc="-1" strike="noStrike">
                <a:solidFill>
                  <a:srgbClr val="cc3300"/>
                </a:solidFill>
                <a:latin typeface="Stone Sans OS ITC TT-Semi"/>
              </a:rPr>
              <a:t>  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267080"/>
            <a:ext cx="8991720" cy="2064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scendr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e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bagg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ndre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Nou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v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n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re voi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dre)       Il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rand match de f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0880" y="1522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Donnez le passé composé of -RE verbe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295280"/>
            <a:ext cx="2362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. rendre, j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5000" y="1295280"/>
            <a:ext cx="26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j'ai re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600" y="23623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. entendre, n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0" y="2209680"/>
            <a:ext cx="410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us avons ente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3429000"/>
            <a:ext cx="36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perdre, v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257800" y="3352680"/>
            <a:ext cx="3581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vous avez per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648320"/>
            <a:ext cx="311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. attendre, t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4120" y="4495680"/>
            <a:ext cx="3429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tu as atte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5791320"/>
            <a:ext cx="291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5. fondre, 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5638680"/>
            <a:ext cx="3352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l a fo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-93600" y="141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13160" y="1417680"/>
            <a:ext cx="3929040" cy="4024440"/>
            <a:chOff x="2513160" y="1417680"/>
            <a:chExt cx="3929040" cy="4024440"/>
          </a:xfrm>
        </p:grpSpPr>
        <p:sp>
          <p:nvSpPr>
            <p:cNvPr id="147" name=""/>
            <p:cNvSpPr/>
            <p:nvPr/>
          </p:nvSpPr>
          <p:spPr>
            <a:xfrm>
              <a:off x="2513160" y="1417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1417680"/>
              <a:ext cx="392904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  </a:t>
              </a:r>
              <a:r>
                <a:rPr b="0" lang="en-US" sz="25000" spc="-1" strike="noStrike">
                  <a:solidFill>
                    <a:srgbClr val="666666"/>
                  </a:solidFill>
                  <a:latin typeface="Myriad Web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152280"/>
            <a:ext cx="312408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assé compo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4267080"/>
            <a:ext cx="3200400" cy="157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jou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fi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s devo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n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liv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057400"/>
            <a:ext cx="7467480" cy="212832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v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r verbs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r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228600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4382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895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505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52280"/>
            <a:ext cx="2590920" cy="1752840"/>
          </a:xfrm>
          <a:prstGeom prst="wedgeRoundRectCallout">
            <a:avLst>
              <a:gd name="adj1" fmla="val 163296"/>
              <a:gd name="adj2" fmla="val 25273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review one more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0880" y="152280"/>
            <a:ext cx="7391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-ER, -IR, and -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1295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. maigrir, v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00600" y="1295280"/>
            <a:ext cx="3524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vous avez maig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2209680"/>
            <a:ext cx="3886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. rendre, n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6920" y="2057400"/>
            <a:ext cx="410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us avons re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312408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marquer, 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57800" y="3048120"/>
            <a:ext cx="35812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ls ont marqu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4038480"/>
            <a:ext cx="311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. acheter, t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410080" y="4038480"/>
            <a:ext cx="3429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tu as ache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5029200"/>
            <a:ext cx="291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5. choisir, 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4120" y="4952880"/>
            <a:ext cx="3352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il a choi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-93600" y="141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513160" y="1417680"/>
            <a:ext cx="3929040" cy="4024440"/>
            <a:chOff x="2513160" y="1417680"/>
            <a:chExt cx="3929040" cy="4024440"/>
          </a:xfrm>
        </p:grpSpPr>
        <p:sp>
          <p:nvSpPr>
            <p:cNvPr id="172" name=""/>
            <p:cNvSpPr/>
            <p:nvPr/>
          </p:nvSpPr>
          <p:spPr>
            <a:xfrm>
              <a:off x="2513160" y="1417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3160" y="1417680"/>
              <a:ext cx="3929040" cy="40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  </a:t>
              </a:r>
              <a:r>
                <a:rPr b="0" lang="en-US" sz="25000" spc="-1" strike="noStrike">
                  <a:solidFill>
                    <a:srgbClr val="666666"/>
                  </a:solidFill>
                  <a:latin typeface="Myriad Web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87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80880" y="6019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. attendre, j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76920" y="6019920"/>
            <a:ext cx="3886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. j'ai atte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8800" y="0"/>
            <a:ext cx="6705720" cy="3352680"/>
          </a:xfrm>
          <a:prstGeom prst="wedgeEllipseCallout">
            <a:avLst>
              <a:gd name="adj1" fmla="val -41666"/>
              <a:gd name="adj2" fmla="val 8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’re confus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sk for help or go back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ok at the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’re doing 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08200" y="1406520"/>
            <a:ext cx="3929040" cy="3932280"/>
            <a:chOff x="2608200" y="1406520"/>
            <a:chExt cx="3929040" cy="3932280"/>
          </a:xfrm>
        </p:grpSpPr>
        <p:sp>
          <p:nvSpPr>
            <p:cNvPr id="180" name=""/>
            <p:cNvSpPr/>
            <p:nvPr/>
          </p:nvSpPr>
          <p:spPr>
            <a:xfrm>
              <a:off x="2608200" y="140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8200" y="1406520"/>
              <a:ext cx="392904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  </a:t>
              </a:r>
              <a:r>
                <a:rPr b="0" lang="en-US" sz="25200" spc="-1" strike="noStrike">
                  <a:solidFill>
                    <a:srgbClr val="666666"/>
                  </a:solidFill>
                  <a:latin typeface="Myriad Web"/>
                </a:rPr>
                <a:t> </a:t>
              </a:r>
              <a:r>
                <a:rPr b="0" lang="en-US" sz="800" spc="-1" strike="noStrike">
                  <a:solidFill>
                    <a:srgbClr val="666666"/>
                  </a:solidFill>
                  <a:latin typeface="Myriad Web"/>
                </a:rPr>
                <a:t>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944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44193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Les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a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see a           that means to write in your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       that means use a white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esitate to ask a question if you’re conf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hesitate to do an activity over or go back in the presentation, if you didn’t succeed or don’t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08840" y="5334120"/>
            <a:ext cx="123516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019920" y="6248520"/>
            <a:ext cx="15620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on y va!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10670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y these sentences.  Say them aloud.  What do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0" i="1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i regard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match hier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0" i="1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s vend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 iP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 trou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aucoup d’a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 </a:t>
            </a:r>
            <a:r>
              <a:rPr b="0" i="1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 ser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 grand d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ame, vous </a:t>
            </a:r>
            <a:r>
              <a:rPr b="0" i="1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vez corrig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 devoi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828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I watched the game las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971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You sold my iP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191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He found a lot of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5334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She served a big d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400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Madame, you corrected ou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Ecrivez le frança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blocked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beyed your m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watched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old 20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ini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157040" cy="1752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1676520"/>
            <a:ext cx="4572000" cy="3962160"/>
          </a:xfrm>
          <a:prstGeom prst="wedgeRoundRectCallout">
            <a:avLst>
              <a:gd name="adj1" fmla="val -96458"/>
              <a:gd name="adj2" fmla="val 69990"/>
              <a:gd name="adj3" fmla="val 16667"/>
            </a:avLst>
          </a:prstGeom>
          <a:solidFill>
            <a:srgbClr val="ec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erlin Sans FB Demi"/>
              </a:rPr>
              <a:t>Check your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Do you have a form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 Demi"/>
              </a:rPr>
              <a:t>AVOIR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 Demi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in each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Ecrivez le frança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Ils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Comic Sans MS"/>
              </a:rPr>
              <a:t>ont bloqué</a:t>
            </a: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 le bal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u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Comic Sans MS"/>
              </a:rPr>
              <a:t>as obéi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à ta mè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Elle 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Comic Sans MS"/>
              </a:rPr>
              <a:t>a regardé</a:t>
            </a: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 le mat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Nous </a:t>
            </a:r>
            <a:r>
              <a:rPr b="0" lang="en-US" sz="2800" spc="-1" strike="noStrike" u="sng">
                <a:solidFill>
                  <a:srgbClr val="669900"/>
                </a:solidFill>
                <a:uFillTx/>
                <a:latin typeface="Comic Sans MS"/>
              </a:rPr>
              <a:t>avons perd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Vous 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Comic Sans MS"/>
              </a:rPr>
              <a:t>avez vendu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20 dv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J’ </a:t>
            </a:r>
            <a:r>
              <a:rPr b="0" lang="en-US" sz="2800" spc="-1" strike="noStrike" u="sng">
                <a:solidFill>
                  <a:srgbClr val="339966"/>
                </a:solidFill>
                <a:uFillTx/>
                <a:latin typeface="Comic Sans MS"/>
              </a:rPr>
              <a:t>ai fini</a:t>
            </a: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1570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3200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locked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beyed your m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watched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old 20 dv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ini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Pratiquez Enco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/>
          </p:cNvPr>
          <p:cNvSpPr/>
          <p:nvPr/>
        </p:nvSpPr>
        <p:spPr>
          <a:xfrm>
            <a:off x="1523880" y="1905120"/>
            <a:ext cx="594360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quez ici pour faire les activités 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Kristen ITC"/>
              </a:rPr>
              <a:t>Conjugue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0"/>
            <a:ext cx="48006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E G. CORRIGEZ LES SU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 rot="21123600">
            <a:off x="304560" y="761760"/>
            <a:ext cx="6019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N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36384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Kristen ITC"/>
              </a:rPr>
              <a:t>Etudiez le verbe AVOIR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say the forms before they app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J’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Tu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Il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Ell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449568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Nous av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Vous av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Ils 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Fax"/>
              </a:rPr>
              <a:t>Elles 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tch the beginning to the end of the sentence.  Watch for clues !Write out the entire sentence in your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19320"/>
            <a:ext cx="3886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ill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ame, vou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 et Mar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, Tu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e et Laure, Vou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n, Tu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’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95280"/>
            <a:ext cx="4724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     avez le ball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     n’ont pas d’équi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     ont de jolies 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     as beaucoup de coup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     n’y a pas de specta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     avons nos vé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n chemis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 un filet dans le gar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e raquet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z deux maillo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0"/>
            <a:ext cx="48006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E B.  ECRIVEZ LES RE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1006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heck your answers carefully.  Do you understand your mist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19320"/>
            <a:ext cx="85341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ille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t de jolies 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ame, vou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vez le ball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’y a pas de spectate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 et Marc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’ont pas d’équi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, T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beaucoup de cou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vons nos vé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e et Laure, Vou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vez deux maillo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n, T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s ton chemi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’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i un filet dans le ga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in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une raquet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0"/>
            <a:ext cx="48006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E B.  CORRIGEZ LES RE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371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Kristen ITC"/>
              </a:rPr>
              <a:t>Here’s a new TENS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Kristen ITC"/>
              </a:rPr>
              <a:t>Le passé composé</a:t>
            </a: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Kristen ITC"/>
              </a:rPr>
              <a:t>(The past ten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06208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95480" y="3962520"/>
            <a:ext cx="2590920" cy="1752480"/>
          </a:xfrm>
          <a:prstGeom prst="wedgeRoundRectCallout">
            <a:avLst>
              <a:gd name="adj1" fmla="val 85847"/>
              <a:gd name="adj2" fmla="val -715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nez les notes dans le classeu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Le PASSE COM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lfaen"/>
              </a:rPr>
              <a:t>TO FORM THE PAST TENSE IN FRENCH YOU NEED 2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124080"/>
            <a:ext cx="78487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FORM OF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VOIR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0384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029200"/>
            <a:ext cx="784872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PAST PARTICI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3764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PAST PARTICI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905120"/>
            <a:ext cx="2286000" cy="131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ER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1905120"/>
            <a:ext cx="2286000" cy="131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IR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1905120"/>
            <a:ext cx="2286000" cy="131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RE 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2670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Stone Sans OS ITC TT-Semi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3434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Stone Sans OS ITC TT-Semi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411480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Stone Sans OS ITC TT-Semi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276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OFF THE INFINITIVE ENDINGS AND ADD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855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35960" y="0"/>
            <a:ext cx="150804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71800" y="0"/>
            <a:ext cx="30481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z ces phr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990720"/>
            <a:ext cx="3200400" cy="2128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jou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f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fi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s devo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n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liv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990720"/>
            <a:ext cx="3886200" cy="212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c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ur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52120" y="3276720"/>
            <a:ext cx="4572360" cy="2971800"/>
            <a:chOff x="1752120" y="3276720"/>
            <a:chExt cx="4572360" cy="2971800"/>
          </a:xfrm>
        </p:grpSpPr>
        <p:sp>
          <p:nvSpPr>
            <p:cNvPr id="83" name=""/>
            <p:cNvSpPr/>
            <p:nvPr/>
          </p:nvSpPr>
          <p:spPr>
            <a:xfrm flipH="1" flipV="1">
              <a:off x="1752120" y="3276720"/>
              <a:ext cx="68580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3733920"/>
              <a:ext cx="3962160" cy="2514600"/>
            </a:xfrm>
            <a:prstGeom prst="wedgeRoundRectCallout">
              <a:avLst>
                <a:gd name="adj1" fmla="val -65106"/>
                <a:gd name="adj2" fmla="val 60606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tice there a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2 PART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o form th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st tens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avoir + past particip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1:53:36Z</dcterms:created>
  <dc:creator>SDW</dc:creator>
  <dc:description/>
  <dc:language>en-US</dc:language>
  <cp:lastModifiedBy>SDW</cp:lastModifiedBy>
  <dcterms:modified xsi:type="dcterms:W3CDTF">2010-11-03T20:59:46Z</dcterms:modified>
  <cp:revision>21</cp:revision>
  <dc:subject/>
  <dc:title>Une révision des verbes francais I</dc:title>
</cp:coreProperties>
</file>